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02F-9D5D-4D62-9D4A-E3A96CEA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B25-F646-4DC3-B1CD-ABB94272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770-0CD5-42AB-BF03-E14F9236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8BF-6301-4B3B-B041-3B12AB57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49A-5CE8-4555-B0CD-DC273A24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3DF-649F-46D9-A71C-419CAEA4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C12-3660-46E2-A1FC-4FE4C21D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227-B7CE-4A1B-9B08-858E0B96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7E5-EB47-4201-9A06-96A440BB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FD1-346F-45A5-98A0-3395E51C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D18-B72F-4E10-910F-4A76DF87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9FC-9000-4873-8D5D-AF0A514F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ECA7-0C02-42B4-8051-1AAD79083F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CRAIGS                                  WHITECRAIGS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0" descr="Whitecraigs 2.JPG"/>
          <p:cNvPicPr/>
          <p:nvPr/>
        </p:nvPicPr>
        <p:blipFill>
          <a:blip r:embed="rId1"/>
          <a:stretch/>
        </p:blipFill>
        <p:spPr>
          <a:xfrm>
            <a:off x="415800" y="333360"/>
            <a:ext cx="1152720" cy="124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Whitecraigs 50th.JPG"/>
          <p:cNvPicPr/>
          <p:nvPr/>
        </p:nvPicPr>
        <p:blipFill>
          <a:blip r:embed="rId2"/>
          <a:stretch/>
        </p:blipFill>
        <p:spPr>
          <a:xfrm>
            <a:off x="2073240" y="333360"/>
            <a:ext cx="12430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43:42Z</dcterms:modified>
  <cp:revision>22</cp:revision>
  <dc:subject/>
  <dc:title>PowerPoint Presentation</dc:title>
</cp:coreProperties>
</file>